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F14-8F7B-4BC4-8320-60F948E0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BFA-8C77-4887-8772-01428D1C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860-3D56-4A9D-9386-8078A208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A92C-D79E-4B64-A1D0-92F7E19C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A30-C615-4C46-9D93-171FCCE0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52B-161D-47B3-8A51-8DCD9932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AEB-CB0A-4466-AB2E-5C6CA2A5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FBE-1F3C-4FAB-A478-13EE623C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1B35-CE55-4050-AE02-19863273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A37-2817-4C4E-8204-54A8D61C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EF4-8D04-4207-A480-DE664CB9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EE0-C1E5-46B5-9419-190122D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D808-6E0A-4277-AE7F-6D68EECC79E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AB7AAB2A-71FD-48C6-969B-E2439AA0273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57120" y="1500120"/>
            <a:ext cx="838224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8.9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εις δε οὐκ ἐστε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ι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ἀλλα ἐ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νευμα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are no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i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tt. 16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Ἰησους εἰπεν αὐτῳ∙ Μακαριος εἶ, Σιμων Βαριωνα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ξ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ἱμ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ὐκ ἀπεκαλυψεν σοι ἀλλα’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 πατη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esus said to him, 'You are blessed, Simon Bariona, becaus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loo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did not reveal (this) to you, but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athe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2.1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ει ὁ θεος∙ Ἐκχεῶ ἀπο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ου πνευματο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ου ἐπι πασα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σαρκ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προφητευσουσιν οἱ υἱοι ὑμων και αἱ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θυγατερε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ὑμω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d says, 'I will pour out from my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piri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n all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les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and you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ns and your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aught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will prophesy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4BF5A2EC-8B66-4E2C-A4C8-B9DADB7D0F6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1427040"/>
            <a:ext cx="8686800" cy="921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0" lang="en-GB" sz="2800" spc="-1" strike="noStrike">
                <a:solidFill>
                  <a:srgbClr val="000000"/>
                </a:solidFill>
                <a:latin typeface="Greek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the indefinite pronoun - someone, an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Gentium"/>
              </a:rPr>
              <a:t>τίς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interrogative pronoun - who? wha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81200" y="2643120"/>
          <a:ext cx="7505640" cy="3335400"/>
        </p:xfrm>
        <a:graphic>
          <a:graphicData uri="http://schemas.openxmlformats.org/drawingml/2006/table">
            <a:tbl>
              <a:tblPr/>
              <a:tblGrid>
                <a:gridCol w="1020600"/>
                <a:gridCol w="1725480"/>
                <a:gridCol w="1695600"/>
                <a:gridCol w="1731960"/>
                <a:gridCol w="1332000"/>
              </a:tblGrid>
              <a:tr h="48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Femin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ν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ισ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51248C8E-5EC0-4EB4-890E-3D363454201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43080" y="1274760"/>
            <a:ext cx="845820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Use as Pronou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θεωρ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m do you see?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βλεψα τιν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 saw some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ς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coming?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ει τ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one is list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περι τίνων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/Who are you speaking ab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Use as Adjectiv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να μισθον ἐχε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reward do you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τρατιωται τινες ἐρχονται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soldiers are co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ff"/>
                </a:solidFill>
                <a:uFillTx/>
                <a:latin typeface="Arial"/>
              </a:rPr>
              <a:t>Ι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t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can also mean 'why?‘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λεγ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are you speaking ?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'what are you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ying?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71508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961B96E4-CECC-483A-9574-D2944F11470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44440" y="244440"/>
            <a:ext cx="86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5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ις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l-GR" sz="3200" spc="-1" strike="noStrike">
                <a:solidFill>
                  <a:srgbClr val="000000"/>
                </a:solidFill>
                <a:latin typeface="Gentium"/>
              </a:rPr>
              <a:t>τί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5840" y="1428840"/>
            <a:ext cx="850104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Distinguishing between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 (someone) and </a:t>
            </a:r>
            <a:r>
              <a:rPr b="1" lang="el-GR" sz="2700" spc="-1" strike="noStrike">
                <a:solidFill>
                  <a:srgbClr val="ffffff"/>
                </a:solidFill>
                <a:latin typeface="Gentium"/>
              </a:rPr>
              <a:t>τίς</a:t>
            </a: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 (who?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ffff"/>
                </a:solidFill>
                <a:latin typeface="Arial"/>
              </a:rPr>
              <a:t>Three ways: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e context normally makes it very clear (and indeed there will be a question mark i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mea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someone) cannot be the first word in a sentence, while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Arial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(who) frequently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You can learn some relatively simply rules about the acc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ccent on the first syllable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ί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who?, what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accent or an accent on the second syllable 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τι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someon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DD8CCA28-661F-4C72-AD0A-AB95D66B809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4120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1 THE ESSENCE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3</a:t>
            </a:r>
            <a:r>
              <a:rPr b="0" lang="en-GB" sz="2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DECLEN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1407960"/>
            <a:ext cx="792504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re are a few characteristic features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masculine and feminine are identical; the neuter is simil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nominative singular form is irregular – it is not formed from the stem plus an ending, although all the other forms 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ecause the nominative is irregul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for a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 word you need to learn both the nominative and another form from which the stem can be deduced (the genitive is be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- no ending indicates that a word is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, as up to now words ending in -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ave always declined like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λογ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Indeed, the beauty of the 3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declension is its ability to cope with words whatever their nominat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70F47F6C-ED36-48A6-994E-56A98EA76F8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1424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re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10000" y="1928880"/>
          <a:ext cx="3924000" cy="2468520"/>
        </p:xfrm>
        <a:graphic>
          <a:graphicData uri="http://schemas.openxmlformats.org/drawingml/2006/table">
            <a:tbl>
              <a:tblPr/>
              <a:tblGrid>
                <a:gridCol w="1000080"/>
                <a:gridCol w="1724040"/>
                <a:gridCol w="1199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Text Box 85"/>
          <p:cNvSpPr/>
          <p:nvPr/>
        </p:nvSpPr>
        <p:spPr>
          <a:xfrm>
            <a:off x="304920" y="4495680"/>
            <a:ext cx="853416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 the whole there is no connection between these endings and those of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, although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genitive plur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nding -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ων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s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304920" y="15717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out for the endings which are used differently in the 3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clension than in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/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98440" y="2857680"/>
          <a:ext cx="8515440" cy="2743200"/>
        </p:xfrm>
        <a:graphic>
          <a:graphicData uri="http://schemas.openxmlformats.org/drawingml/2006/table">
            <a:tbl>
              <a:tblPr/>
              <a:tblGrid>
                <a:gridCol w="682560"/>
                <a:gridCol w="3605400"/>
                <a:gridCol w="42274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ecl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sing. (masc. or fem.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. nom. or acc. pl. (or nom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-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 pl. (masc. or fem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. acc. pl. (or gen. sing. of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ἡμερα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E3732651-53AE-47C2-80F3-D261265954C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846A0CAA-4EF4-4459-8966-FC66ABAB727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42960" y="1447920"/>
            <a:ext cx="7643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, 'star'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τηρ, ἀστερο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 and therefore its stem is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ἀστερ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nce it declines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60520" y="3081240"/>
          <a:ext cx="5969160" cy="2468520"/>
        </p:xfrm>
        <a:graphic>
          <a:graphicData uri="http://schemas.openxmlformats.org/drawingml/2006/table">
            <a:tbl>
              <a:tblPr/>
              <a:tblGrid>
                <a:gridCol w="1135080"/>
                <a:gridCol w="2325600"/>
                <a:gridCol w="250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ηρ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ε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α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ος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στερ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624A4AAE-06DD-4D3B-A397-2C709B718C9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6"/>
          <p:cNvSpPr/>
          <p:nvPr/>
        </p:nvSpPr>
        <p:spPr>
          <a:xfrm>
            <a:off x="1805040" y="12668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2.2.1 Note on the dative plu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66920" y="1839960"/>
          <a:ext cx="4734000" cy="1508040"/>
        </p:xfrm>
        <a:graphic>
          <a:graphicData uri="http://schemas.openxmlformats.org/drawingml/2006/table">
            <a:tbl>
              <a:tblPr/>
              <a:tblGrid>
                <a:gridCol w="1538280"/>
                <a:gridCol w="603360"/>
                <a:gridCol w="877680"/>
                <a:gridCol w="757440"/>
                <a:gridCol w="95724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δ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+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ι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60"/>
          <p:cNvSpPr/>
          <p:nvPr/>
        </p:nvSpPr>
        <p:spPr>
          <a:xfrm>
            <a:off x="495360" y="3322800"/>
            <a:ext cx="8153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flesh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αρξ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αρκ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σαρξ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child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ι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ιδ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παι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0640" y="4714920"/>
          <a:ext cx="5562720" cy="503280"/>
        </p:xfrm>
        <a:graphic>
          <a:graphicData uri="http://schemas.openxmlformats.org/drawingml/2006/table">
            <a:tbl>
              <a:tblPr/>
              <a:tblGrid>
                <a:gridCol w="2781360"/>
                <a:gridCol w="27813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ντ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+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σι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 Box 184"/>
          <p:cNvSpPr/>
          <p:nvPr/>
        </p:nvSpPr>
        <p:spPr>
          <a:xfrm>
            <a:off x="490680" y="5143680"/>
            <a:ext cx="84391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ruler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ρχω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ρχοντος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o the dative plural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</a:rPr>
              <a:t>ἀρχουσιν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FED3C2D7-AC1A-4F29-BF63-767557E8E20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2.2  MASCULINE AND FEMININE NOUN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WITH 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60440" y="1714680"/>
          <a:ext cx="6421320" cy="1371600"/>
        </p:xfrm>
        <a:graphic>
          <a:graphicData uri="http://schemas.openxmlformats.org/drawingml/2006/table">
            <a:tbl>
              <a:tblPr/>
              <a:tblGrid>
                <a:gridCol w="1333440"/>
                <a:gridCol w="2664000"/>
                <a:gridCol w="24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follow the same slightly irregular pa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μητρο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ugh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η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θυγ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857680" y="3214800"/>
          <a:ext cx="3641400" cy="2225520"/>
        </p:xfrm>
        <a:graphic>
          <a:graphicData uri="http://schemas.openxmlformats.org/drawingml/2006/table">
            <a:tbl>
              <a:tblPr/>
              <a:tblGrid>
                <a:gridCol w="866520"/>
                <a:gridCol w="1341360"/>
                <a:gridCol w="1433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η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ε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τρ</a:t>
                      </a:r>
                      <a:r>
                        <a:rPr b="0" lang="el-GR" sz="2400" spc="-1" strike="noStrike" u="sng">
                          <a:solidFill>
                            <a:srgbClr val="ffffff"/>
                          </a:solidFill>
                          <a:uFillTx/>
                          <a:latin typeface="Gentium"/>
                          <a:ea typeface="Times New Roman"/>
                        </a:rPr>
                        <a:t>α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115"/>
          <p:cNvSpPr/>
          <p:nvPr/>
        </p:nvSpPr>
        <p:spPr>
          <a:xfrm>
            <a:off x="361800" y="5380200"/>
            <a:ext cx="842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s sometimes part of the stem, and sometimes not. Also th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 the dative plural.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ατη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(alone) also has an irregular vocative 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πατ</a:t>
            </a:r>
            <a:r>
              <a:rPr b="0" lang="el-GR" sz="2200" spc="-1" strike="noStrike" u="sng">
                <a:solidFill>
                  <a:srgbClr val="ffffff"/>
                </a:solidFill>
                <a:uFillTx/>
                <a:latin typeface="Gentium"/>
              </a:rPr>
              <a:t>ε</a:t>
            </a:r>
            <a:r>
              <a:rPr b="0" lang="el-GR" sz="22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6"/>
          <p:cNvSpPr/>
          <p:nvPr/>
        </p:nvSpPr>
        <p:spPr>
          <a:xfrm>
            <a:off x="2571840" y="1138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2.2.2 The family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897E131C-869D-40EF-9FDE-3D675DF504D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NEUTER NOUN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57160" y="1163520"/>
          <a:ext cx="6296040" cy="2270160"/>
        </p:xfrm>
        <a:graphic>
          <a:graphicData uri="http://schemas.openxmlformats.org/drawingml/2006/table">
            <a:tbl>
              <a:tblPr/>
              <a:tblGrid>
                <a:gridCol w="973080"/>
                <a:gridCol w="2662560"/>
                <a:gridCol w="2660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o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cal to 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ιν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(</a:t>
                      </a: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-</a:t>
                      </a: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ι</a:t>
                      </a:r>
                      <a:r>
                        <a:rPr b="0" lang="en-GB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95"/>
          <p:cNvSpPr/>
          <p:nvPr/>
        </p:nvSpPr>
        <p:spPr>
          <a:xfrm>
            <a:off x="2143080" y="3500280"/>
            <a:ext cx="457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'body' is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σωματος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  <a:ea typeface="Times New Roman"/>
              </a:rPr>
              <a:t>:</a:t>
            </a:r>
            <a:r>
              <a:rPr b="0" lang="en-GB" sz="25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57160" y="4060800"/>
          <a:ext cx="5079960" cy="2316240"/>
        </p:xfrm>
        <a:graphic>
          <a:graphicData uri="http://schemas.openxmlformats.org/drawingml/2006/table">
            <a:tbl>
              <a:tblPr/>
              <a:tblGrid>
                <a:gridCol w="1220760"/>
                <a:gridCol w="1887480"/>
                <a:gridCol w="19717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ο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ω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τ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5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ωμασι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143000" y="1230480"/>
          <a:ext cx="6667560" cy="2987640"/>
        </p:xfrm>
        <a:graphic>
          <a:graphicData uri="http://schemas.openxmlformats.org/drawingml/2006/table">
            <a:tbl>
              <a:tblPr/>
              <a:tblGrid>
                <a:gridCol w="871560"/>
                <a:gridCol w="1506600"/>
                <a:gridCol w="1361880"/>
                <a:gridCol w="1511280"/>
                <a:gridCol w="1416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ν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λειοσ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164"/>
          <p:cNvSpPr/>
          <p:nvPr/>
        </p:nvSpPr>
        <p:spPr>
          <a:xfrm>
            <a:off x="173160" y="4411800"/>
            <a:ext cx="8786520" cy="19843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a noun and an adjective qualifying it are from different families, their endings will differ even when they are agreeing in gender, case and numb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ἀγαθος ἐχει πλειον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 φιλ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υ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The good man has more frie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2:Grammar </a:t>
            </a:r>
            <a:fld id="{D02DCF96-3D5F-4641-AE2A-F55790B1F59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71280" y="85680"/>
            <a:ext cx="8628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2.4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ADJECTIVES WI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ONSONANT STEM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8:45:46Z</dcterms:created>
  <dc:creator>Sarah</dc:creator>
  <dc:description/>
  <dc:language>en-US</dc:language>
  <cp:lastModifiedBy>Sarah</cp:lastModifiedBy>
  <dcterms:modified xsi:type="dcterms:W3CDTF">2009-03-06T12:36:50Z</dcterms:modified>
  <cp:revision>36</cp:revision>
  <dc:subject/>
  <dc:title>Slide 1</dc:title>
</cp:coreProperties>
</file>